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189D-2038-476F-BBE5-B8542532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DA80-2A68-4884-A1EC-99392821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0A0B-44A0-4E48-A57A-A2D3CFD4E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43DC-D8FB-4A77-95BF-3E963B04E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C9C81-E12C-481A-8DDB-A3EEAC1BB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A724A-A411-42D4-AFD8-78E7BD404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6AF09-B6D6-4FAC-B84E-675D88BDD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0849-5B80-4CD8-BE74-8BFE9E4E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8E316-ED82-4963-8261-2D99E8406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30A59-9743-47CA-96F2-CA79FB57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2DCCD-ED7C-4C5E-86FD-49B16C8D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C20-F06D-4D73-8E3F-1825400B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43546-492A-4BA3-AA92-60CE1E4D7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DAAAF-1147-4DCA-B582-DC696026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9E454-FDB5-4596-8A1B-F12463832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CBD7C-3F89-4793-A6CA-B103A4C64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5CB3-469A-470C-A119-4123C9E5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760C-1B51-46E3-8254-95229A88F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8D88-D217-4F27-8B07-FB11BEC9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4753-9D32-47AC-882C-2FF0FDE5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51A7-11CF-4B09-91AA-3D7D5274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9C4-362F-463D-BCBA-91892097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F6E6-EC53-4E31-9B23-3C59E237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4C7E-4D79-454C-8F6A-E6056A8C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B5B8-9731-43E6-B6D5-72BD4EB62B3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2EE22-D53E-412F-BCF9-0296C899AD56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4" name="图片 3" descr="timg"/>
          <p:cNvPicPr/>
          <p:nvPr/>
        </p:nvPicPr>
        <p:blipFill>
          <a:blip r:embed="rId1"/>
          <a:stretch/>
        </p:blipFill>
        <p:spPr>
          <a:xfrm>
            <a:off x="76320" y="61920"/>
            <a:ext cx="8991360" cy="687528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4"/>
          <p:cNvSpPr/>
          <p:nvPr/>
        </p:nvSpPr>
        <p:spPr>
          <a:xfrm>
            <a:off x="7278840" y="3808440"/>
            <a:ext cx="178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我国幅员辽阔，有许多风景秀丽的地方，位于祖国南方的一个最大的岛屿，它就是台湾岛，那里有一个风景特别美丽的地方，吸引了中外游客，那个地方就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" descr="timg"/>
          <p:cNvPicPr/>
          <p:nvPr/>
        </p:nvPicPr>
        <p:blipFill>
          <a:blip r:embed="rId1"/>
          <a:stretch/>
        </p:blipFill>
        <p:spPr>
          <a:xfrm>
            <a:off x="419040" y="1120680"/>
            <a:ext cx="8039160" cy="5245200"/>
          </a:xfrm>
          <a:prstGeom prst="rect">
            <a:avLst/>
          </a:prstGeom>
          <a:ln w="0">
            <a:noFill/>
          </a:ln>
        </p:spPr>
      </p:pic>
      <p:sp>
        <p:nvSpPr>
          <p:cNvPr id="105" name="文本框 2"/>
          <p:cNvSpPr/>
          <p:nvPr/>
        </p:nvSpPr>
        <p:spPr>
          <a:xfrm>
            <a:off x="2597040" y="198360"/>
            <a:ext cx="4062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名胜古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图片 1" descr="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1"/>
          <p:cNvSpPr/>
          <p:nvPr/>
        </p:nvSpPr>
        <p:spPr>
          <a:xfrm>
            <a:off x="2293920" y="281160"/>
            <a:ext cx="52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从这一段，你又知道了什么？是从哪里知道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2"/>
          <p:cNvSpPr/>
          <p:nvPr/>
        </p:nvSpPr>
        <p:spPr>
          <a:xfrm>
            <a:off x="2513160" y="5762520"/>
            <a:ext cx="525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用自己的话说说日月潭的由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1" descr="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1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图片 1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"/>
          <p:cNvSpPr/>
          <p:nvPr/>
        </p:nvSpPr>
        <p:spPr>
          <a:xfrm>
            <a:off x="1514520" y="1278000"/>
            <a:ext cx="63864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日月潭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  )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湖水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)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湖中央有个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          )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叫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岛把湖水分成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北边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     )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叫日潭；南边像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       ),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叫月潭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"/>
          <p:cNvSpPr/>
          <p:nvPr/>
        </p:nvSpPr>
        <p:spPr>
          <a:xfrm>
            <a:off x="2023920" y="5875200"/>
            <a:ext cx="48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月潭不仅名字有趣，哪里的风景也非常优美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图片 1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Box 2"/>
          <p:cNvSpPr/>
          <p:nvPr/>
        </p:nvSpPr>
        <p:spPr>
          <a:xfrm>
            <a:off x="1187280" y="3860640"/>
            <a:ext cx="16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名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著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外闻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3708360" y="3860640"/>
            <a:ext cx="165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华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"/>
          <p:cNvSpPr/>
          <p:nvPr/>
        </p:nvSpPr>
        <p:spPr>
          <a:xfrm>
            <a:off x="6443640" y="3933720"/>
            <a:ext cx="165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秀丽神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5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文本框 1"/>
          <p:cNvSpPr/>
          <p:nvPr/>
        </p:nvSpPr>
        <p:spPr>
          <a:xfrm>
            <a:off x="1319040" y="308772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日月潭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风光秀丽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，吸引了许许多多的中外游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2"/>
          <p:cNvSpPr/>
          <p:nvPr/>
        </p:nvSpPr>
        <p:spPr>
          <a:xfrm>
            <a:off x="2527200" y="5030640"/>
            <a:ext cx="40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什么说它风光秀丽？默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2"/>
          <p:cNvSpPr/>
          <p:nvPr/>
        </p:nvSpPr>
        <p:spPr>
          <a:xfrm>
            <a:off x="3278160" y="744480"/>
            <a:ext cx="258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月潭究竟是怎样的，听老师读课文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3"/>
          <p:cNvSpPr/>
          <p:nvPr/>
        </p:nvSpPr>
        <p:spPr>
          <a:xfrm>
            <a:off x="5867280" y="744480"/>
            <a:ext cx="258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文中告诉我们，日月潭是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1" descr="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1" descr="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1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文本框 1"/>
          <p:cNvSpPr/>
          <p:nvPr/>
        </p:nvSpPr>
        <p:spPr>
          <a:xfrm>
            <a:off x="3992400" y="204840"/>
            <a:ext cx="308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这两个自然段写了日月潭什么时候的风景？圈出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1" descr="5.jpg"/>
          <p:cNvPicPr/>
          <p:nvPr/>
        </p:nvPicPr>
        <p:blipFill>
          <a:blip r:embed="rId1"/>
          <a:stretch/>
        </p:blipFill>
        <p:spPr>
          <a:xfrm>
            <a:off x="0" y="1508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文本框 1"/>
          <p:cNvSpPr/>
          <p:nvPr/>
        </p:nvSpPr>
        <p:spPr>
          <a:xfrm>
            <a:off x="1432080" y="217440"/>
            <a:ext cx="732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清晨，中午的日月潭景色各不相同，各有特色。喜欢清晨日月潭的举手，请你们读一读，其它同学闭上眼睛边听边想清晨的日月潭是怎样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文本框 2"/>
          <p:cNvSpPr/>
          <p:nvPr/>
        </p:nvSpPr>
        <p:spPr>
          <a:xfrm>
            <a:off x="533520" y="863640"/>
            <a:ext cx="42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月潭给你留下了怎样的印象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3"/>
          <p:cNvSpPr/>
          <p:nvPr/>
        </p:nvSpPr>
        <p:spPr>
          <a:xfrm>
            <a:off x="2360520" y="1673280"/>
            <a:ext cx="29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隐隐约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"/>
          <p:cNvSpPr/>
          <p:nvPr/>
        </p:nvSpPr>
        <p:spPr>
          <a:xfrm>
            <a:off x="4044960" y="86364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为什么是隐隐约约的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6"/>
          <p:cNvSpPr/>
          <p:nvPr/>
        </p:nvSpPr>
        <p:spPr>
          <a:xfrm>
            <a:off x="2360520" y="3165480"/>
            <a:ext cx="2928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薄薄的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7"/>
          <p:cNvSpPr/>
          <p:nvPr/>
        </p:nvSpPr>
        <p:spPr>
          <a:xfrm>
            <a:off x="1265400" y="3995640"/>
            <a:ext cx="59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这是一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_____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的美，请你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图片 1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1"/>
          <p:cNvSpPr/>
          <p:nvPr/>
        </p:nvSpPr>
        <p:spPr>
          <a:xfrm>
            <a:off x="2744640" y="3203640"/>
            <a:ext cx="58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如果说清晨的日月潭是隐约的美，那到了中午就不一样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男女分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说说看日月潭的中午是一种怎样的美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图片 1" descr="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2"/>
          <p:cNvSpPr/>
          <p:nvPr/>
        </p:nvSpPr>
        <p:spPr>
          <a:xfrm>
            <a:off x="1881360" y="2263680"/>
            <a:ext cx="21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细雨中的日月潭也别有一番景象，让我们一起读一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3"/>
          <p:cNvSpPr/>
          <p:nvPr/>
        </p:nvSpPr>
        <p:spPr>
          <a:xfrm>
            <a:off x="4648320" y="2263680"/>
            <a:ext cx="21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想象一下这景象特别像哪个童话中描写的景像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1" descr="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Box 2"/>
          <p:cNvSpPr/>
          <p:nvPr/>
        </p:nvSpPr>
        <p:spPr>
          <a:xfrm>
            <a:off x="1187280" y="3860640"/>
            <a:ext cx="165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名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著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名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外闻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3"/>
          <p:cNvSpPr/>
          <p:nvPr/>
        </p:nvSpPr>
        <p:spPr>
          <a:xfrm>
            <a:off x="3708360" y="3860640"/>
            <a:ext cx="165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中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华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4"/>
          <p:cNvSpPr/>
          <p:nvPr/>
        </p:nvSpPr>
        <p:spPr>
          <a:xfrm>
            <a:off x="6443640" y="3933720"/>
            <a:ext cx="1657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明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秀丽神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图片 5" descr="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1"/>
          <p:cNvSpPr/>
          <p:nvPr/>
        </p:nvSpPr>
        <p:spPr>
          <a:xfrm>
            <a:off x="1319040" y="3087720"/>
            <a:ext cx="6782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日月潭</a:t>
            </a:r>
            <a:r>
              <a:rPr b="0" lang="zh-CN" sz="4800" spc="-1" strike="noStrike">
                <a:solidFill>
                  <a:srgbClr val="ff0000"/>
                </a:solidFill>
                <a:latin typeface="Arial"/>
                <a:ea typeface="宋体"/>
              </a:rPr>
              <a:t>风光秀丽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宋体"/>
              </a:rPr>
              <a:t>，吸引了许许多多的中外游客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"/>
          <p:cNvSpPr/>
          <p:nvPr/>
        </p:nvSpPr>
        <p:spPr>
          <a:xfrm>
            <a:off x="2527200" y="5030640"/>
            <a:ext cx="40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为什么说它风光秀丽？默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自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3"/>
          <p:cNvSpPr/>
          <p:nvPr/>
        </p:nvSpPr>
        <p:spPr>
          <a:xfrm>
            <a:off x="596880" y="204840"/>
            <a:ext cx="76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你喜欢哪个时候的日月潭呢？比赛读一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无论是哪个时候的日月潭，都那么美，用一个词形容就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1" descr="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图片 1" descr="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图片 1" descr="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3" descr="2.jpg"/>
          <p:cNvPicPr/>
          <p:nvPr/>
        </p:nvPicPr>
        <p:blipFill>
          <a:blip r:embed="rId1"/>
          <a:stretch/>
        </p:blipFill>
        <p:spPr>
          <a:xfrm>
            <a:off x="-115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文本框 1"/>
          <p:cNvSpPr/>
          <p:nvPr/>
        </p:nvSpPr>
        <p:spPr>
          <a:xfrm>
            <a:off x="6308640" y="1536840"/>
            <a:ext cx="2008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潭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水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泥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深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</a:rPr>
              <a:t>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2"/>
          <p:cNvSpPr/>
          <p:nvPr/>
        </p:nvSpPr>
        <p:spPr>
          <a:xfrm>
            <a:off x="1096920" y="977760"/>
            <a:ext cx="19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Arial"/>
              </a:rPr>
              <a:t>深水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1" descr="1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图片 1" descr="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"/>
          <p:cNvSpPr/>
          <p:nvPr/>
        </p:nvSpPr>
        <p:spPr>
          <a:xfrm>
            <a:off x="1692360" y="3716280"/>
            <a:ext cx="223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痕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足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名胜古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3"/>
          <p:cNvSpPr/>
          <p:nvPr/>
        </p:nvSpPr>
        <p:spPr>
          <a:xfrm>
            <a:off x="4716360" y="3789360"/>
            <a:ext cx="223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展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展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图片 1" descr="1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1" descr="3.jpg"/>
          <p:cNvPicPr/>
          <p:nvPr/>
        </p:nvPicPr>
        <p:blipFill>
          <a:blip r:embed="rId1"/>
          <a:stretch/>
        </p:blipFill>
        <p:spPr>
          <a:xfrm>
            <a:off x="0" y="9036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文本框 1" descr=""/>
          <p:cNvPicPr/>
          <p:nvPr/>
        </p:nvPicPr>
        <p:blipFill>
          <a:blip r:embed="rId2"/>
          <a:stretch/>
        </p:blipFill>
        <p:spPr>
          <a:xfrm>
            <a:off x="1805040" y="2455920"/>
            <a:ext cx="620532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 1" descr="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图片 1" descr="4(1)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1" descr="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矩形 1"/>
          <p:cNvSpPr/>
          <p:nvPr/>
        </p:nvSpPr>
        <p:spPr>
          <a:xfrm>
            <a:off x="4932360" y="3990960"/>
            <a:ext cx="1727280" cy="5778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2"/>
          <p:cNvSpPr/>
          <p:nvPr/>
        </p:nvSpPr>
        <p:spPr>
          <a:xfrm>
            <a:off x="2681280" y="4726080"/>
            <a:ext cx="1727280" cy="576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"/>
          <p:cNvSpPr/>
          <p:nvPr/>
        </p:nvSpPr>
        <p:spPr>
          <a:xfrm>
            <a:off x="6103800" y="4751280"/>
            <a:ext cx="1727280" cy="576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文本框 1"/>
          <p:cNvSpPr/>
          <p:nvPr/>
        </p:nvSpPr>
        <p:spPr>
          <a:xfrm>
            <a:off x="698400" y="1873080"/>
            <a:ext cx="774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学习第一自然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1" descr="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矩形 1"/>
          <p:cNvSpPr/>
          <p:nvPr/>
        </p:nvSpPr>
        <p:spPr>
          <a:xfrm>
            <a:off x="6227640" y="5713560"/>
            <a:ext cx="2665440" cy="100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"/>
          <p:cNvSpPr/>
          <p:nvPr/>
        </p:nvSpPr>
        <p:spPr>
          <a:xfrm>
            <a:off x="1660680" y="1622520"/>
            <a:ext cx="2663640" cy="10065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alibri"/>
                <a:ea typeface="宋体"/>
              </a:rPr>
              <a:t>树木茂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20T00:52:05Z</dcterms:created>
  <dc:creator>Administrator</dc:creator>
  <dc:description/>
  <dc:language>en-US</dc:language>
  <cp:lastModifiedBy>noodee</cp:lastModifiedBy>
  <dcterms:modified xsi:type="dcterms:W3CDTF">2018-10-24T13:58:52Z</dcterms:modified>
  <cp:revision>3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